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C74A-AF06-4F56-BC72-1CC84039D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k began 2years ago. Facilitated by Charla Wright in collaboration with the OIS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ooked at the instructional models being implemented in the district such as Backward Design, SI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Envisioned to emphasize high expectations and success for all students; is based on current educational research and best prac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structional framework is proposed for supporting personalised learning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udent-centered and learning-focussed approach of instruction aiming to address learner differences and conciliate their learning style, preferences and progress during content inte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udent Centered Instructional Model that nurtures student achievement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ing the focus of activity from the teacher to the lear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Equity based model that intentionally and consistently creates opportunities, provides necessary resources and facilitates access to educational arrangements for each student to develop a host of sophisticated skills, including the ability to solve problems, communicate effectively, think critically, and grasp complex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is based on current educational research and best practices; and supports the goals and strategic plan of the Juneau School District of rigor, relevance, and relationsh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s by the JSD district goals, Content Goals and objectives and Language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tudents is in relation to the content and materials (background Knowledge), What are the present skills, what needs to be built to assure success (building background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the JSD strategic pl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re connected to adults, challenged with high standards and Instruction individualiz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Profile with accurate information of current readiness to interact with the content to be lea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plan to make content and process comprehensible for each student and product diversity to engage student’s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viting learning environment that reflects students identity and where each student feels present, recognized and celebr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first major goal is to measure how well students are actually achieving each of the learning outcom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track and compare student achievement across different years, measure success of instruction and curricular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second major goal is to use assessment data to make changes to improve programs, identify program needs, staff development, additional support and/or allocation of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 measu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valuat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udent performance, achievement or knowledg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ly constructed or standardized test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irect measu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es learning outcome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direct measures are self-reports (usually surveys, journals, focus groups, interview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5DF0-ED2D-489E-B597-C8F1E8DB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ECF-8278-42B2-B674-9AEC6705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B85-C29F-4E94-B702-D391EF4A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3C28-C1AF-4132-BB0C-78807E48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4D51-94F7-4A0A-A73D-238E3EFD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11FC-C99D-44AE-84AE-C908126B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5078-E883-4259-A07E-BB1B0A45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C887-9492-4C6D-B8C8-F42BF0AA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50B9-F0AD-45D5-AB9E-76CB26CB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7C3F-4081-4AE7-9120-E352A406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4073-9F4D-4CCF-A64E-F4A701C6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0B7D-5E0E-4FE3-B5B8-CFAB80DD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7290-24D9-4825-BAD5-7895A364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80B4-C3B3-420C-8087-2755F1A6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11F0-E476-4F65-9CEF-9BBCFE7F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19CF-3ADE-4D13-910F-56636537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D8BB-BC19-402D-A820-52EA5F87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CC3-A807-4D67-AAF7-AFAB2027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F5CA-7DF5-4849-B6F1-445E9A1E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56F-B721-4E28-86D2-DC1D3772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3FCD-72A5-428E-934D-27C19845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74B-0FAD-48A3-B4F1-D3E54F7A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BD35-916B-4C88-A808-80FA003C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A31-7389-4624-B6DE-CD9EF383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47DF-4752-44F1-BB3C-6BD79AE7F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3E67-E249-4A10-BD94-06ACD8EDE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004840" y="4281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neau School Distr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ructiona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680080" y="730080"/>
            <a:ext cx="2622600" cy="3276720"/>
          </a:xfrm>
          <a:prstGeom prst="rect">
            <a:avLst/>
          </a:prstGeom>
          <a:ln w="0">
            <a:noFill/>
          </a:ln>
          <a:effectLst>
            <a:outerShdw dist="38222" dir="1796741" blurRad="0" rotWithShape="0">
              <a:srgbClr val="808080">
                <a:alpha val="58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uneau School District Instructional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udent Cen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quity Fou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 fundamental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sential Understa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ss for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iated Instruction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idence of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spinning_end" descr=""/>
          <p:cNvPicPr/>
          <p:nvPr/>
        </p:nvPicPr>
        <p:blipFill>
          <a:blip r:embed="rId1"/>
          <a:stretch/>
        </p:blipFill>
        <p:spPr>
          <a:xfrm>
            <a:off x="4648320" y="2438280"/>
            <a:ext cx="4038480" cy="35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5172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4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ision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7720" y="3124080"/>
            <a:ext cx="7620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rooted in the vision of an empowered community where learning is continuous, relevant, and adaptiv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ovide a base for instructional focus within and across classrooms and sch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uild instructional environments that nurture high expectations, positive student outcomes and personal responsibility for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 common discourse around classroom assessment as a reflection of student learning and instruction refin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structional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4419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erarch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Cen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3276720"/>
            <a:ext cx="3808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4800600"/>
            <a:ext cx="304920" cy="15228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2057400"/>
            <a:ext cx="144756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student_faces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structional Framewor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undational Compon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sential 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ess for Su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iated Instructional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idence of Su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3276720"/>
            <a:ext cx="3808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800600"/>
            <a:ext cx="304920" cy="15228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2057400"/>
            <a:ext cx="144756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3276720"/>
            <a:ext cx="7632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3276720"/>
            <a:ext cx="7596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2286000"/>
            <a:ext cx="7632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2666880"/>
            <a:ext cx="3047760" cy="1295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2209680"/>
            <a:ext cx="3047760" cy="2133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undational Compon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486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sential 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at do we want students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NOW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nd be able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neau School District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ent Goals &amp; Objectiv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E &amp; Content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ltur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nguage Objectiv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Specific Comprehension and Communication Compe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 Language Proficienc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3276720"/>
            <a:ext cx="3808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4800600"/>
            <a:ext cx="304920" cy="15228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144756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3276720"/>
            <a:ext cx="7632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undational Compon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4265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ess for Su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does each stude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d able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udent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ve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ct Assessm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3276720"/>
            <a:ext cx="3808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4800600"/>
            <a:ext cx="304920" cy="15228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057400"/>
            <a:ext cx="144756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3276720"/>
            <a:ext cx="7632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276720"/>
            <a:ext cx="7596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2666880"/>
            <a:ext cx="3048120" cy="1295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undational Compon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fferentiated Instructional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ow does my instructional design suppor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IGO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LEVANC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LATIONSHI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 all student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D Strategic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cking Your Systems for 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son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, Process, Produc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ve Learn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276720"/>
            <a:ext cx="3808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4800600"/>
            <a:ext cx="304920" cy="15228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2362320"/>
            <a:ext cx="129528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72400" y="3276720"/>
            <a:ext cx="7632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3276720"/>
            <a:ext cx="7596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2590920"/>
            <a:ext cx="3200400" cy="1447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undational Compon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94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vidence of Su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ow will the studen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MONSTRAT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MUNICAT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ucc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lminating Task/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ive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l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mmative and Formative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 Ref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3276720"/>
            <a:ext cx="3808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0" y="4800600"/>
            <a:ext cx="304920" cy="15228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2057400"/>
            <a:ext cx="144756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72400" y="3276720"/>
            <a:ext cx="7632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3276720"/>
            <a:ext cx="7596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4280" y="2666880"/>
            <a:ext cx="3048120" cy="1295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209680"/>
            <a:ext cx="7632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2209680"/>
            <a:ext cx="3048120" cy="2133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17:29:20Z</dcterms:created>
  <dc:creator>Technology Juneau</dc:creator>
  <dc:description/>
  <cp:keywords/>
  <dc:language>en-US</dc:language>
  <cp:lastModifiedBy>JSD Technology Riverbend</cp:lastModifiedBy>
  <cp:lastPrinted>2007-10-17T16:28:34Z</cp:lastPrinted>
  <dcterms:modified xsi:type="dcterms:W3CDTF">2008-08-22T02:29:47Z</dcterms:modified>
  <cp:revision>40</cp:revision>
  <dc:subject/>
  <dc:title>                    </dc:title>
</cp:coreProperties>
</file>